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800-1FC9-431F-A00C-18540426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C08-2D5B-420A-9EA7-522393FB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A21-F47B-4C2A-B9BD-D7F04370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394-5110-457B-B1F7-6AE2D2D6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6F7-9A56-4774-B87D-587B2A3B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E18-2269-4ADB-9E08-D1D9719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C51-F64C-4081-B045-EC09FF7F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92F-886D-48CD-A835-9D98FD31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3561-7A00-4641-97A6-5706F93A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3CA-B67D-4E05-9EB9-F35B0A1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DFE-CE65-407D-8466-3A465EE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0A0-0E2B-4B9B-9C6E-EA8B7871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F50-D7C2-4AB4-9045-2E3D72FF8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igh Frequency Wo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i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d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i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oul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im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alle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ill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ge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a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250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up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u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m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a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ll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o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ly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e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it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s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im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o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ould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te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ew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f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y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w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w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wo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ich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v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tl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ve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ur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jus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de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s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at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ut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w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n</a:t>
            </a:r>
            <a:br>
              <a:rPr sz="9600"/>
            </a:b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21:26Z</dcterms:created>
  <dc:creator>user</dc:creator>
  <dc:description/>
  <dc:language>en-US</dc:language>
  <cp:lastModifiedBy>laurengriffin</cp:lastModifiedBy>
  <dcterms:modified xsi:type="dcterms:W3CDTF">2006-11-13T18:48:17Z</dcterms:modified>
  <cp:revision>5</cp:revision>
  <dc:subject/>
  <dc:title>High Frequency Words</dc:title>
</cp:coreProperties>
</file>